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026F7-29CE-430B-94F9-432B345AF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29503-278C-4AE8-952C-26DC248F0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8A43D-C264-46CD-91C8-0153F16AB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D7AE5-D77B-4E45-A8A1-B4268851C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89806-A4B7-4ADF-A411-C000BBAC0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772A9-9AA3-448C-A326-6E8258321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1E286-BA56-4A59-9713-11EBFE59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0F0BF-0614-468B-B80E-577E17598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08051-1552-4009-8DCD-41B2E4258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A1130-40CE-4F1C-849F-17539B5ED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E31EB-8B86-4726-A6D0-CD55AC93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EC5B1-6A21-4A48-90D3-AA5C0F302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C0A28-58DC-42D5-A185-BE4C2401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FC3F8-6B05-4691-B9D1-FA36A112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E421E-0F24-4DB9-9424-CC7B7FE82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97DFD-E595-4655-B0F8-F482D8051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0850E-B09B-45E1-804C-FB75A65BE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AD518-19F9-48B4-8520-A432C657D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11FB3-9093-4CA8-9334-E7EA34D86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402CB-1026-4896-B241-DCA010768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1514D-7DF7-47D5-9708-C438A44A9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C01EA-1F98-44C3-A487-3405C024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7CB1A-DC93-4556-9DD0-38C0766B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21BE1-DFC3-443A-856E-5FEEB2B3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9F5FE-1609-40AE-8EB0-B01792E1CD79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F2743-F110-4A1F-8DFF-F595D6AAFF52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1087560" y="1268640"/>
            <a:ext cx="112791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0 </a:t>
            </a:r>
            <a:r>
              <a:rPr b="1" lang="bg-BG" sz="44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18</a:t>
            </a:r>
            <a:r>
              <a:rPr b="1" lang="bg-BG" sz="44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ошел е пак денят на свят покой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о от начало Бог избра за Свой.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вободни днес от светските дела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принесем ние жертва на хвал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79280" y="2226600"/>
            <a:ext cx="896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 Бога този ден да посветим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се научим вярно да вървим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небесен път Бог да благоволи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да приеме нашите молб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394920" y="1792800"/>
            <a:ext cx="960516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ебесни Отче, в тоз опасен път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ъди Вожд наш през земния живот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е хвалим Твойта Бащина любов -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бъде Тебе слава в век веков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09-12-19T07:38:11Z</dcterms:modified>
  <cp:revision>16</cp:revision>
  <dc:subject/>
  <dc:title>Slide 1</dc:title>
</cp:coreProperties>
</file>